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apbig0g.wav" ContentType="audio/x-wav"/>
  <Override PartName="/ppt/media/bserie06.wav" ContentType="audio/x-wav"/>
  <Override PartName="/ppt/media/jetflyby2.wav" ContentType="audio/x-wav"/>
  <Override PartName="/ppt/media/hzipup01.wav" ContentType="audio/x-wav"/>
  <Override PartName="/ppt/media/fastcar.wav" ContentType="audio/x-wav"/>
  <Override PartName="/ppt/media/lzipup01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AC11-21B0-4622-BB62-8306700B2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2869-5A29-4EFB-8988-B28DDC019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CE56-E3AF-4DD6-8778-515F4EED7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31C7-CF3C-4C2D-B2C8-D923F1937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EAEB-4D92-45B2-920B-6B2472B6D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3731-19C1-4369-BAC3-CAB20383D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D46C-02C7-479A-9954-8F59D79FF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2FC3-543E-4338-B36F-1A579EBC2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8A02-4954-4295-A6FC-D1C798148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56DD-8570-4611-8EE6-7F313437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A8D4-50DC-4CAE-BBF2-EA7D5B52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4286-E7D4-4B8C-9E90-46207548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D5F40-5086-49E2-9302-5FAAC75A8D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audio" Target="../media/jetflyby2.wav"/><Relationship Id="rId6" Type="http://schemas.openxmlformats.org/officeDocument/2006/relationships/audio" Target="../media/jetflyby2.wav"/><Relationship Id="rId7" Type="http://schemas.openxmlformats.org/officeDocument/2006/relationships/audio" Target="../media/jetflyby2.wav"/><Relationship Id="rId8" Type="http://schemas.openxmlformats.org/officeDocument/2006/relationships/audio" Target="../media/jetflyby2.wav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audio" Target="../media/hzipup01.wav"/><Relationship Id="rId5" Type="http://schemas.openxmlformats.org/officeDocument/2006/relationships/audio" Target="../media/fastcar.wav"/><Relationship Id="rId6" Type="http://schemas.openxmlformats.org/officeDocument/2006/relationships/audio" Target="../media/jetflyby2.wav"/><Relationship Id="rId7" Type="http://schemas.openxmlformats.org/officeDocument/2006/relationships/audio" Target="../media/jetflyby2.wav"/><Relationship Id="rId8" Type="http://schemas.openxmlformats.org/officeDocument/2006/relationships/audio" Target="../media/jetflyby2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jetflyby2.wav"/><Relationship Id="rId13" Type="http://schemas.openxmlformats.org/officeDocument/2006/relationships/audio" Target="../media/jetflyby2.wav"/><Relationship Id="rId14" Type="http://schemas.openxmlformats.org/officeDocument/2006/relationships/audio" Target="../media/jetflyby2.wav"/><Relationship Id="rId15" Type="http://schemas.openxmlformats.org/officeDocument/2006/relationships/audio" Target="../media/hzipup01.wav"/><Relationship Id="rId16" Type="http://schemas.openxmlformats.org/officeDocument/2006/relationships/audio" Target="../media/lzipup01.wav"/><Relationship Id="rId17" Type="http://schemas.openxmlformats.org/officeDocument/2006/relationships/audio" Target="../media/jetflyby2.wav"/><Relationship Id="rId18" Type="http://schemas.openxmlformats.org/officeDocument/2006/relationships/audio" Target="../media/jetflyby2.wav"/><Relationship Id="rId1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audio" Target="../media/jetflyby2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audio" Target="../media/jetflyby2.wav"/><Relationship Id="rId6" Type="http://schemas.openxmlformats.org/officeDocument/2006/relationships/audio" Target="../media/jetflyby2.wav"/><Relationship Id="rId7" Type="http://schemas.openxmlformats.org/officeDocument/2006/relationships/audio" Target="../media/jetflyby2.wav"/><Relationship Id="rId8" Type="http://schemas.openxmlformats.org/officeDocument/2006/relationships/audio" Target="../media/jetflyby2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hzipup01.wav"/><Relationship Id="rId6" Type="http://schemas.openxmlformats.org/officeDocument/2006/relationships/audio" Target="../media/jetflyby2.wav"/><Relationship Id="rId7" Type="http://schemas.openxmlformats.org/officeDocument/2006/relationships/audio" Target="../media/jetflyby2.wav"/><Relationship Id="rId8" Type="http://schemas.openxmlformats.org/officeDocument/2006/relationships/audio" Target="../media/jetflyby2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jetflyby2.wav"/><Relationship Id="rId13" Type="http://schemas.openxmlformats.org/officeDocument/2006/relationships/audio" Target="../media/jetflyby2.wav"/><Relationship Id="rId14" Type="http://schemas.openxmlformats.org/officeDocument/2006/relationships/audio" Target="../media/hzipup01.wav"/><Relationship Id="rId15" Type="http://schemas.openxmlformats.org/officeDocument/2006/relationships/audio" Target="../media/jetflyby2.wav"/><Relationship Id="rId16" Type="http://schemas.openxmlformats.org/officeDocument/2006/relationships/audio" Target="../media/jetflyby2.wav"/><Relationship Id="rId17" Type="http://schemas.openxmlformats.org/officeDocument/2006/relationships/audio" Target="../media/jetflyby2.wav"/><Relationship Id="rId18" Type="http://schemas.openxmlformats.org/officeDocument/2006/relationships/audio" Target="../media/jetflyby2.wav"/><Relationship Id="rId19" Type="http://schemas.openxmlformats.org/officeDocument/2006/relationships/audio" Target="../media/jetflyby2.wav"/><Relationship Id="rId20" Type="http://schemas.openxmlformats.org/officeDocument/2006/relationships/audio" Target="../media/jetflyby2.wav"/><Relationship Id="rId2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hzipup01.wav"/><Relationship Id="rId6" Type="http://schemas.openxmlformats.org/officeDocument/2006/relationships/audio" Target="../media/zapbig0g.wav"/><Relationship Id="rId7" Type="http://schemas.openxmlformats.org/officeDocument/2006/relationships/audio" Target="../media/jetflyby2.wav"/><Relationship Id="rId8" Type="http://schemas.openxmlformats.org/officeDocument/2006/relationships/audio" Target="../media/jetflyby2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audio" Target="../media/hzipup01.wav"/><Relationship Id="rId6" Type="http://schemas.openxmlformats.org/officeDocument/2006/relationships/audio" Target="../media/fastcar.wav"/><Relationship Id="rId7" Type="http://schemas.openxmlformats.org/officeDocument/2006/relationships/audio" Target="../media/jetflyby2.wav"/><Relationship Id="rId8" Type="http://schemas.openxmlformats.org/officeDocument/2006/relationships/audio" Target="../media/jetflyby2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audio" Target="../media/hzipup01.wav"/><Relationship Id="rId5" Type="http://schemas.openxmlformats.org/officeDocument/2006/relationships/audio" Target="../media/fastcar.wav"/><Relationship Id="rId6" Type="http://schemas.openxmlformats.org/officeDocument/2006/relationships/audio" Target="../media/jetflyby2.wav"/><Relationship Id="rId7" Type="http://schemas.openxmlformats.org/officeDocument/2006/relationships/audio" Target="../media/jetflyby2.wav"/><Relationship Id="rId8" Type="http://schemas.openxmlformats.org/officeDocument/2006/relationships/audio" Target="../media/jetflyby2.wav"/><Relationship Id="rId9" Type="http://schemas.openxmlformats.org/officeDocument/2006/relationships/audio" Target="../media/jetflyby2.wav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audio" Target="../media/hzipup01.wav"/><Relationship Id="rId5" Type="http://schemas.openxmlformats.org/officeDocument/2006/relationships/audio" Target="../media/fastcar.wav"/><Relationship Id="rId6" Type="http://schemas.openxmlformats.org/officeDocument/2006/relationships/audio" Target="../media/jetflyby2.wav"/><Relationship Id="rId7" Type="http://schemas.openxmlformats.org/officeDocument/2006/relationships/audio" Target="../media/jetflyby2.wav"/><Relationship Id="rId8" Type="http://schemas.openxmlformats.org/officeDocument/2006/relationships/audio" Target="../media/jetflyby2.wav"/><Relationship Id="rId9" Type="http://schemas.openxmlformats.org/officeDocument/2006/relationships/audio" Target="../media/jetflyby2.wav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audio" Target="../media/hzipup01.wav"/><Relationship Id="rId5" Type="http://schemas.openxmlformats.org/officeDocument/2006/relationships/audio" Target="../media/fastcar.wav"/><Relationship Id="rId6" Type="http://schemas.openxmlformats.org/officeDocument/2006/relationships/audio" Target="../media/jetflyby2.wav"/><Relationship Id="rId7" Type="http://schemas.openxmlformats.org/officeDocument/2006/relationships/audio" Target="../media/jetflyby2.wav"/><Relationship Id="rId8" Type="http://schemas.openxmlformats.org/officeDocument/2006/relationships/audio" Target="../media/jetflyby2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jetflyby2.wav"/><Relationship Id="rId13" Type="http://schemas.openxmlformats.org/officeDocument/2006/relationships/audio" Target="../media/jetflyby2.wav"/><Relationship Id="rId14" Type="http://schemas.openxmlformats.org/officeDocument/2006/relationships/audio" Target="../media/jetflyby2.wav"/><Relationship Id="rId15" Type="http://schemas.openxmlformats.org/officeDocument/2006/relationships/audio" Target="../media/hzipup01.wav"/><Relationship Id="rId16" Type="http://schemas.openxmlformats.org/officeDocument/2006/relationships/audio" Target="../media/lzipup01.wav"/><Relationship Id="rId17" Type="http://schemas.openxmlformats.org/officeDocument/2006/relationships/audio" Target="../media/jetflyby2.wav"/><Relationship Id="rId18" Type="http://schemas.openxmlformats.org/officeDocument/2006/relationships/audio" Target="../media/jetflyby2.wav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8 – 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Evaluate each express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515880" y="1390680"/>
                <a:ext cx="4486320" cy="14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when 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958680" y="3090960"/>
                <a:ext cx="1616400" cy="17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2671920" y="2967120"/>
                <a:ext cx="1292040" cy="21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3343320" y="4073400"/>
                <a:ext cx="560520" cy="84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4114800" y="3586320"/>
                <a:ext cx="10652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5094360" y="2973240"/>
                <a:ext cx="730080" cy="218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5156280" y="4079880"/>
                <a:ext cx="55872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8 – 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Solve. Then, chec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1235160" y="1365120"/>
                <a:ext cx="3390840" cy="15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782720" y="2762280"/>
                <a:ext cx="92412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3708360" y="2786040"/>
                <a:ext cx="882720" cy="14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1512720" y="4314960"/>
            <a:ext cx="3210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857680" y="4851360"/>
                <a:ext cx="10220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981080" y="4371840"/>
                <a:ext cx="69552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021040" y="5281560"/>
                <a:ext cx="70956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 flipH="1">
            <a:off x="4083120" y="1320840"/>
            <a:ext cx="426960" cy="291132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708120" y="1379520"/>
                <a:ext cx="706320" cy="14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701640" y="2773440"/>
                <a:ext cx="709560" cy="14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749600" y="2297160"/>
                <a:ext cx="58068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1706400" y="1463760"/>
                <a:ext cx="5828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698400" y="1539720"/>
                <a:ext cx="71460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555920" y="3683160"/>
                <a:ext cx="5806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589040" y="2900520"/>
                <a:ext cx="58104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846000" y="2930400"/>
                <a:ext cx="43668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465120" y="4314960"/>
            <a:ext cx="3210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25680" y="3340080"/>
            <a:ext cx="884160" cy="41112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000"/>
                            </p:stCondLst>
                            <p:childTnLst>
                              <p:par>
                                <p:cTn id="5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133524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207, 8 – 7 #1-1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209, 8 – 8 #1-1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8 – 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Evaluate each express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87280" y="1314360"/>
                <a:ext cx="5294520" cy="14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z</m:t>
                    </m:r>
                    <m:r>
                      <m:rPr>
                        <m:lit/>
                        <m:nor/>
                      </m:rPr>
                      <m:t xml:space="preserve"> when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819000" y="2874960"/>
                <a:ext cx="2129040" cy="16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3033720" y="3260880"/>
                <a:ext cx="117936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173480" y="2676600"/>
                <a:ext cx="728640" cy="21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4265640" y="3746520"/>
                <a:ext cx="5605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8 – 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Evaluate each express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201600" y="1271520"/>
                <a:ext cx="7470720" cy="14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r</m:t>
                    </m:r>
                    <m:r>
                      <m:t xml:space="preserve">−</m:t>
                    </m:r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 when 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5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750960" y="2874960"/>
                <a:ext cx="2266920" cy="16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3111480" y="3502080"/>
                <a:ext cx="53964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4218120" y="2792520"/>
                <a:ext cx="637920" cy="19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4281480" y="3760920"/>
                <a:ext cx="48744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3772080" y="3340080"/>
                <a:ext cx="53640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4729320" y="2927520"/>
                <a:ext cx="100800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702320" y="3687840"/>
                <a:ext cx="101124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5754600" y="3338640"/>
                <a:ext cx="10652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6777000" y="2887560"/>
                <a:ext cx="622440" cy="18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6859440" y="3863880"/>
                <a:ext cx="47628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8 – 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Evaluate each express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43000" y="1292400"/>
                <a:ext cx="7388280" cy="14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 when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657360" y="5284800"/>
            <a:ext cx="1612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95160" y="4503600"/>
            <a:ext cx="46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Lucida Sans Unicode"/>
                <a:ea typeface="Lucida Sans Unicode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1246320" y="2190600"/>
                <a:ext cx="882360" cy="14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1603440" y="3706920"/>
                <a:ext cx="528480" cy="14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2876400" y="5708520"/>
                <a:ext cx="55584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3341520" y="5259240"/>
                <a:ext cx="555840" cy="17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3367080" y="6200640"/>
                <a:ext cx="5079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946240" y="2266920"/>
                <a:ext cx="860760" cy="14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/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276720" y="3724200"/>
                <a:ext cx="53496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2048040" y="3065400"/>
                <a:ext cx="6397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2043000" y="2295360"/>
                <a:ext cx="64152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3351240" y="2305080"/>
                <a:ext cx="48096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093760" y="4559400"/>
                <a:ext cx="5209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085840" y="3795840"/>
                <a:ext cx="5209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3367080" y="3765600"/>
                <a:ext cx="4381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 flipV="1">
            <a:off x="2236680" y="5284800"/>
            <a:ext cx="1600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3975120" y="5716440"/>
                <a:ext cx="1015920" cy="7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006880" y="5284800"/>
                <a:ext cx="762120" cy="15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5148360" y="6200640"/>
                <a:ext cx="5094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8 – 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Evaluate each express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360360" y="1190520"/>
                <a:ext cx="6977160" cy="143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c</m:t>
                    </m:r>
                    <m:r>
                      <m:t xml:space="preserve">−</m:t>
                    </m:r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 when 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657360" y="5284800"/>
            <a:ext cx="1704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09640" y="4081320"/>
            <a:ext cx="46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Lucida Sans Unicode"/>
                <a:ea typeface="Lucida Sans Unicode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238400" y="2733840"/>
                <a:ext cx="46188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603440" y="3706920"/>
                <a:ext cx="528480" cy="14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204920" y="5710320"/>
                <a:ext cx="5047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674720" y="5267160"/>
                <a:ext cx="534960" cy="17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682640" y="6234120"/>
                <a:ext cx="49392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297080" y="2128680"/>
                <a:ext cx="4842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 flipH="1">
            <a:off x="1310760" y="2854440"/>
            <a:ext cx="335160" cy="46512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658880" y="2336760"/>
                <a:ext cx="519120" cy="13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8 – 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Solve. Then, chec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82600" y="1320840"/>
                <a:ext cx="3144960" cy="16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452600" y="2735280"/>
                <a:ext cx="1035000" cy="15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781360" y="2743200"/>
                <a:ext cx="1035000" cy="15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817560" y="4327560"/>
            <a:ext cx="320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832040" y="4829040"/>
                <a:ext cx="5554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387520" y="4684680"/>
                <a:ext cx="10159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443400" y="4241880"/>
                <a:ext cx="563400" cy="18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454560" y="5170320"/>
                <a:ext cx="5079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 flipH="1">
            <a:off x="1722600" y="1279440"/>
            <a:ext cx="731520" cy="294156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8 – 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Solve. Then, chec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349200" y="1270080"/>
                <a:ext cx="3865680" cy="15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6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897280" y="2805120"/>
                <a:ext cx="130788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719280" y="2814480"/>
                <a:ext cx="1249200" cy="146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817560" y="4327560"/>
            <a:ext cx="320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2041560" y="4871880"/>
                <a:ext cx="106524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923760" y="4699080"/>
                <a:ext cx="46044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409760" y="4276800"/>
                <a:ext cx="501480" cy="17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417680" y="5248440"/>
                <a:ext cx="45864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 flipH="1">
            <a:off x="3322800" y="1279440"/>
            <a:ext cx="731520" cy="294156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8 – 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Solve. Then, chec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407880" y="1270080"/>
                <a:ext cx="3748320" cy="15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585800" y="2743200"/>
                <a:ext cx="130824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913120" y="2814480"/>
                <a:ext cx="1249200" cy="146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817560" y="4327560"/>
            <a:ext cx="320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179800" y="4826160"/>
                <a:ext cx="106488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3270240" y="4699080"/>
                <a:ext cx="46044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755880" y="4276800"/>
                <a:ext cx="501840" cy="17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3763800" y="5248440"/>
                <a:ext cx="45900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 flipH="1">
            <a:off x="2026800" y="1295280"/>
            <a:ext cx="731880" cy="294192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8 – 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Solve. Then, chec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755640" y="1346040"/>
                <a:ext cx="3351240" cy="15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1914480" y="2743200"/>
                <a:ext cx="92412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3095640" y="2814480"/>
                <a:ext cx="882720" cy="146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817560" y="4327560"/>
            <a:ext cx="3209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200320" y="4889520"/>
                <a:ext cx="10224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659040" y="4354560"/>
                <a:ext cx="69552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3678120" y="5264280"/>
                <a:ext cx="75096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 flipH="1">
            <a:off x="2332080" y="1295280"/>
            <a:ext cx="426960" cy="291168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146560" y="1419120"/>
                <a:ext cx="743040" cy="14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114880" y="2876400"/>
                <a:ext cx="746280" cy="149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4052880" y="2263680"/>
                <a:ext cx="50796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4048200" y="1494000"/>
                <a:ext cx="5094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5338800" y="1488960"/>
                <a:ext cx="39672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4024440" y="3648240"/>
                <a:ext cx="6174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4017960" y="2917800"/>
                <a:ext cx="6174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5264280" y="2989440"/>
                <a:ext cx="4363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2782800" y="4327560"/>
            <a:ext cx="3210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65600" y="3367080"/>
            <a:ext cx="884160" cy="41112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5-01-25T19:22:22Z</dcterms:modified>
  <cp:revision>92</cp:revision>
  <dc:subject/>
  <dc:title>Slide 1</dc:title>
</cp:coreProperties>
</file>